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AEC-BB0C-4BF0-BDBB-D287CD99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FAA-6561-42AB-9F30-5FD382E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3B4-8D83-4B9E-9D20-4992C5A1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30C-F725-49FB-A924-11F50651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0BE-1948-4D57-9EC0-BE8E4E71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8DF-4EFF-4DCB-8D03-379A2F0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F99-39C9-4C51-90BF-4A1C4290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54D-BF20-48A7-9882-C616BC7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6DF-9EDD-4E2D-8E38-37ED350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61A-ACFA-453E-8ABD-6FFEB93A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533-C1A8-4BC3-AA38-A9DD814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05C-B39B-4224-A543-BF464D4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5316-F337-47C9-8461-40AB51B6F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dipo 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ta Sánchez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dipo rey de Sófo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tragedia de Edipo expone la desesperación del hombre que se ve implicado en su propia investigación. Dando de esta manera referentes de investigación y aventuras en e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tes que componen la trag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plantea el confli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vida de los implicados se cru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cumple la predicción del oráculo con la muerte de La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resuelve en enigma de la esf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dipo comienza la investigación en la que más tarde verá que es el principal culp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enlace fa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má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dipo-esfinge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89872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edipo_re_freud_medaglia_telepatia" descr=""/>
          <p:cNvPicPr/>
          <p:nvPr/>
        </p:nvPicPr>
        <p:blipFill>
          <a:blip r:embed="rId2"/>
          <a:stretch/>
        </p:blipFill>
        <p:spPr>
          <a:xfrm>
            <a:off x="5867280" y="3654360"/>
            <a:ext cx="3078360" cy="2967120"/>
          </a:xfrm>
          <a:prstGeom prst="rect">
            <a:avLst/>
          </a:prstGeom>
          <a:ln w="0">
            <a:noFill/>
          </a:ln>
        </p:spPr>
      </p:pic>
      <p:pic>
        <p:nvPicPr>
          <p:cNvPr id="50" name="42pic2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503440" cy="4291200"/>
          </a:xfrm>
          <a:prstGeom prst="rect">
            <a:avLst/>
          </a:prstGeom>
          <a:ln w="0">
            <a:noFill/>
          </a:ln>
        </p:spPr>
      </p:pic>
      <p:pic>
        <p:nvPicPr>
          <p:cNvPr id="51" name="lucha_edipo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2401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erente en el 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sta tragedia con final abierto deja la resamantizacion de películas de aventuras e investigación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oderosa afro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Recu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chica terr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safi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trix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994040" cy="2647800"/>
          </a:xfrm>
          <a:prstGeom prst="rect">
            <a:avLst/>
          </a:prstGeom>
          <a:ln w="0">
            <a:noFill/>
          </a:ln>
        </p:spPr>
      </p:pic>
      <p:pic>
        <p:nvPicPr>
          <p:cNvPr id="55" name="poderosaafrodita-300a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25794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07:45Z</dcterms:created>
  <dc:creator>eselza</dc:creator>
  <dc:description/>
  <dc:language>en-US</dc:language>
  <cp:lastModifiedBy>eselza</cp:lastModifiedBy>
  <dcterms:modified xsi:type="dcterms:W3CDTF">2010-04-18T15:16:26Z</dcterms:modified>
  <cp:revision>1</cp:revision>
  <dc:subject/>
  <dc:title>Edipo Rey</dc:title>
</cp:coreProperties>
</file>